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D90-1746-4210-A5E4-806E4692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4A7-D3CE-456F-A72E-7BC9A75C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2D5-0314-4260-BAE2-BBD4E584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4AF-FF96-4CC8-9DA4-974CAE0C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162-E1F8-473A-A6E4-8065506E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BB6-97D8-462D-8896-4DDA3978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FAB-0EAC-4CBF-BC96-D442E0C6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421-849D-4CD1-B4C8-11BEA3BC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865-4FD1-4A84-946F-BC316131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53C-3BB3-4A3F-B93C-640A4248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E72-1BAF-4C7F-B807-1BC67581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4EB-FF5E-43AD-B528-4F69637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01B1-5B84-4D55-8460-27F3DA0B0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77240" cy="999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_</cp:lastModifiedBy>
  <dcterms:modified xsi:type="dcterms:W3CDTF">2000-01-31T21:12:37Z</dcterms:modified>
  <cp:revision>3</cp:revision>
  <dc:subject/>
  <dc:title>No Slide Title</dc:title>
</cp:coreProperties>
</file>