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42A-D477-45E9-A1A2-A075A8C4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32E-568F-4396-824F-6788C66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6C8-B5D5-4EF5-A2AD-DA40DB1E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C26-53D6-4F7C-98CC-76B8BEB5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DB1-9354-4ED2-A4A0-DA1B4245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215-B5C5-4E3C-B667-3EFED61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D9E-8338-4D8E-8C8F-A4D5C448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EF0-CDD5-413F-A0B6-D478BE6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FF1-5EF0-4AF9-B9CD-5CB32AB7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B3D-710F-4CBE-9A06-5108311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7E5-6149-4CD4-BBA9-19B252A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3A3-08A1-404A-95ED-41CFB9F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D5B0-EC08-41AD-AD90-146099E99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9440" y="-423720"/>
            <a:ext cx="7076880" cy="99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_</cp:lastModifiedBy>
  <dcterms:modified xsi:type="dcterms:W3CDTF">2000-01-31T21:06:25Z</dcterms:modified>
  <cp:revision>3</cp:revision>
  <dc:subject/>
  <dc:title>No Slide Title</dc:title>
</cp:coreProperties>
</file>