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E12-2EDC-45C7-85E1-655A0F03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A3B-3550-41E7-8627-3ED7A9C8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667-023D-40EA-BB1A-AD2ABBCF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35E-EB25-4460-9E8D-8B960B37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EBE-A7DD-4A01-8110-F696D779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536-8B89-4A43-B8DA-CD24756F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2EA-5254-47D1-A7C4-5E753ADE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3A6-A091-43F9-9DE3-D6C658C7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0F3-51A5-4029-8BF5-71DC72BF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81E-E561-4AE1-9320-2D75F27E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4FE-251B-44C5-824C-B323163A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9B3-C99D-4632-A2CB-ADA5F270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FD2B-F8A0-4B1C-87DF-AF1BADD0B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_</cp:lastModifiedBy>
  <dcterms:modified xsi:type="dcterms:W3CDTF">2000-01-31T21:08:09Z</dcterms:modified>
  <cp:revision>3</cp:revision>
  <dc:subject/>
  <dc:title>No Slide Title</dc:title>
</cp:coreProperties>
</file>