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5CA-DCC2-49E8-8267-C2D095B6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A30-1372-4699-8282-2D8222AA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F2C-4C37-4BC0-8F0A-EF3B59BD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C5C-2734-45FB-874E-277C2AB2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D8D-E883-4B4A-9BEB-56B1E10C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864-4939-45CB-8318-C795E3E6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323-2D49-42A2-A0DD-9BEC4FC5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851-5D11-4378-8F08-92F07C79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A36-40A9-472E-B94F-9DE5E4E6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371-856D-4374-B8A8-9461BA2F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DED-9A75-4E8C-BF50-8B350E77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E85-BD0A-4414-8A4D-5FDF4C42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1F73-D17E-45E8-A0F0-95D2FBCFB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_</cp:lastModifiedBy>
  <dcterms:modified xsi:type="dcterms:W3CDTF">2000-01-31T21:13:24Z</dcterms:modified>
  <cp:revision>3</cp:revision>
  <dc:subject/>
  <dc:title>No Slide Title</dc:title>
</cp:coreProperties>
</file>